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F1A-C9A9-405C-9FF2-0B71FC94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D79-FDA2-4DB3-A44E-E735D71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B64-72B0-4375-8938-F4ED1A21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B1E-7E4B-4A2B-B3F0-8FDE8624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15B-51B8-4ED5-BC98-0EDFA4EF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DCA-B2A8-41DB-849F-3FC89D9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152-2FD3-424C-885F-EBD8C79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46B8-08EF-4565-9508-1EC25447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D61A-852D-46BF-AA65-EB16CCE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4938-75C3-4E64-8FC2-0A3C472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37C-9FBA-464C-AFE0-C59AF8C0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66B-AC51-43FE-BD01-4B7CB78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F64-D6AD-4E4A-BBD5-D2EE2C4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F61-F1E4-48AA-A98D-75B3DCCA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76B-8CFA-498F-8BC3-31F62244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8714-B2BD-4073-9FCF-B35BC02F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5A5-2DC7-413F-B123-E4D94693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B25-2807-4E11-B974-0C58C57C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B5E-F7AE-4162-B537-33C835D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BD7-376B-4C1A-B270-45F93AC1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F94-5D75-43E4-A511-2973FE9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6A4-FCA5-4165-B2C4-49F9EEE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459-46D0-43C9-8E3A-C3DF4ECF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3AF-9C6A-41AA-957C-54928C8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6EE-0DD7-4565-94DF-227406145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110-D3DB-456A-99A3-1CEE396D6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 llamo __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 fecha es el 13 de diciembre del 20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Propósito # 23:</a:t>
            </a:r>
            <a:r>
              <a:rPr b="1" lang="es-ES_tradnl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s masco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 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TEXTO: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Ejercicio 4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 p. R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comes cuando vas a un café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bebes cuando estas en un café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aprenden tú y tus amigos en la escuel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leen ustedes en la clase de ing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escriben usted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Comprenden los alumnos cuando la profesora de español habl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Reciben ustedes notas buenas en todos sus curs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2860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paso de la Actividad In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447920"/>
            <a:ext cx="830592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omo ________ cuando voy a un caf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95480"/>
            <a:ext cx="830592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ebo ________ cuando estoy a un caf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29000"/>
            <a:ext cx="8305920" cy="947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is amigos y yo aprendemos __________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scu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3519360"/>
            <a:ext cx="830592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Nosotros leemos ________ en la clase de ing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052880"/>
            <a:ext cx="830592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Nosotros escribimos 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586400"/>
            <a:ext cx="8305920" cy="947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Si, los alumnos comprenden cuando la profesora de español hab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576760"/>
            <a:ext cx="8305920" cy="947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Si, (No, no) recibimos notas buenas en todos nuestros cu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paso de la Tarea # 2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ORKBOOK p. R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para la com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ira su emisión favorita en la televi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 ro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 materiales escol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ee el menú y toma un refres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041360" y="2514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la coc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69520" y="2940120"/>
            <a:ext cx="9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5720" y="3733920"/>
            <a:ext cx="65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el comedor (la cafeteria, la coci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5400" y="428148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la tienda de 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49280" y="487692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la papel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9280" y="54244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el c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Tahoma"/>
              </a:rPr>
              <a:t>4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lang="es-ES_tradnl" sz="3200" spc="-1" strike="noStrike">
                <a:solidFill>
                  <a:srgbClr val="009999"/>
                </a:solidFill>
                <a:latin typeface="Tahoma"/>
              </a:rPr>
              <a:t>5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repaso verb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. R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Tahoma"/>
              </a:rPr>
              <a:t>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s una familia grande o pequeñ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Cuántos hermanos tien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Cuántos años tienen ell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n ustedes una casa o un apartamen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Cuantos cuartos tiene su casa o apartamen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n ustedes un perr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071800"/>
            <a:ext cx="830556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Tengo una familia grande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pequeñ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666880"/>
            <a:ext cx="830556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Tengo ____ hermano(s).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No tengo herma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214800"/>
            <a:ext cx="830556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Tiene(n) ________ años.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No tengo herma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809880"/>
            <a:ext cx="8305560" cy="947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Tenemos un apartamento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una ca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815000"/>
            <a:ext cx="8305560" cy="947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i apartamento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casa)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tiene ______ cuar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958000"/>
            <a:ext cx="8305920" cy="520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Si,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</a:rPr>
              <a:t>(No)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tenemos un per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ahoma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i familia _________ una casa muy grande en San José, Costa 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asa ________ ocho cua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hay un garaje porque mis padres _________ dos car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Yo ________ un hermano y una herm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i hermana Susana ________ quince a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ños y mi hermano David ________ trece a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Nosotros también __________ dos gatos ado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Tú ________ un ga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__________ ustedes una casa o un apartamen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72440" y="8380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16146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4480" y="2376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80120" y="283356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96320" y="32907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6840" y="35812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0560" y="405288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8680" y="48150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4440" y="51958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 Presente de los verbos –ER, -I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0% de los verbos en español terminan e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a conjugar los verbos que terminan en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) Sacamos la terminación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Viv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2)Remplazamos la terminación de la siguiente form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Él Ella Ud.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s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los Ellas 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Tahoma"/>
              </a:rPr>
              <a:t>**Los dos son iguales EXEPTO en NOSOTROS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1204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572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204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6800" y="5029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608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4000" y="502920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59092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60496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6080" y="33526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86600" y="335268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996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556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348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2540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(to have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 un verbo irregular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-G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rque en la primera person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mina en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–g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ambien es irregular porque la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RAI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l verbo camb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Cómo se conjuga 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s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l el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los ell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666880"/>
            <a:ext cx="914400" cy="6098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124080"/>
            <a:ext cx="6858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96040" y="266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Ra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0400" y="26668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termin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81480" y="2895480"/>
            <a:ext cx="53352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56480" y="40528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12560" y="44956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2560" y="5105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7040" y="40384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2640" y="51814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area # 2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16:58Z</dcterms:created>
  <dc:creator>Helen Zumaeta</dc:creator>
  <dc:description/>
  <dc:language>en-US</dc:language>
  <cp:lastModifiedBy>Helen Zumaeta</cp:lastModifiedBy>
  <dcterms:modified xsi:type="dcterms:W3CDTF">2012-12-12T19:23:39Z</dcterms:modified>
  <cp:revision>15</cp:revision>
  <dc:subject/>
  <dc:title>Me llamo __________ Clase 6NH La fecha es el 4 de abril del 2014</dc:title>
</cp:coreProperties>
</file>